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B6F-BF95-4CFF-95E3-5E6858AD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576-9906-499B-B192-2930C23E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BFD-9DCF-41CA-9783-2154BF20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CB5-94AB-498D-9FDE-098263EB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1F48-DC57-4BB2-8B2A-75B0A09C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34CE-11AD-4845-953D-485FCFDE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590A-4463-4887-99B7-9BAE3AC1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832D-3E0F-4F21-A8D1-B644213F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6311-FA4F-493F-975F-3F97A8B7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C104-F058-49B8-995D-070D2916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D546-B932-4D5B-9DA5-ABE1E9D3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19C-9315-4B7E-957C-08062552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BB8F-5B73-4D2D-A071-48AF8756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361E-B0B3-44F5-AD1E-970D7C23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F715-4163-4929-89B4-F629B2A9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B662-8921-4218-92F4-E6622F5C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60C2-62E3-43A6-ABCC-2D4B58B2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86B7-8015-4945-9631-C74EBFE7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427-86A4-420F-A085-DB71D94C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800-3EFA-437F-82F7-6915A6FF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A7E-D117-4EF8-A44E-2A657E25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783-A576-478D-A123-43CAD07A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844-2A92-4884-B86D-37B7E9B8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C77-DA9D-4F7A-8F82-B1BABE93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E20E-009C-49E8-93C5-B120B2940DF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ECD1-588A-46CB-9E0C-237A4FBBCE9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5e is learning about poli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cloth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wear a S.R.B.A vest to  protect them from someone trying to stab the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wear special meeting uniforms for when they go to a meet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759800" y="4498920"/>
            <a:ext cx="13842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weap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have weap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Hand cuffs and hand cuff key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y also have guns and taz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pper spra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dog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come from a litt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are specially train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are German shepherd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Jai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Jail is a place where bad people go to learn to be goo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250920" y="400068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vehicle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cars are just like normal ca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19280" y="393372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ank you for watching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My power poi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jordy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0:00:27Z</dcterms:created>
  <dc:creator>5e15</dc:creator>
  <dc:description/>
  <dc:language>en-US</dc:language>
  <cp:lastModifiedBy>5e15</cp:lastModifiedBy>
  <dcterms:modified xsi:type="dcterms:W3CDTF">2011-09-20T23:08:25Z</dcterms:modified>
  <cp:revision>6</cp:revision>
  <dc:subject/>
  <dc:title>police</dc:title>
</cp:coreProperties>
</file>